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E18-1941-4724-A3B3-E14900F3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BE8-9E30-41EA-8986-BAF9ABFF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380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380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368-B751-4957-BDDC-3735BFC4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67624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2388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67624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2388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8DE-D108-40B7-87E4-1E7996AB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3E6-8B12-45EF-80C0-BA86D408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6EE8-E4CF-4943-8327-89FD1C9D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380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036-AB89-42F0-9396-0FAC4BF9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C70-2545-40A9-8EE6-C866EC06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C82-79BF-4F73-8D19-4BC556C7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380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E82-B3A0-4CF1-8ED1-7DE603E4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380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380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4F2-E7E8-4A76-B578-13022F2B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380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16F-79D4-4773-A6C5-A553197E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magicbox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7162920" y="3809880"/>
            <a:ext cx="2101680" cy="2438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buducnost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7426440" y="533520"/>
            <a:ext cx="1717560" cy="281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c3c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AF67-0575-41AC-ADF5-4345FDF81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pozadina2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228600" y="0"/>
            <a:ext cx="7315200" cy="684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784836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Нови хоризонт дигитализације у Србији:  </a:t>
            </a:r>
            <a:br>
              <a:rPr sz="2700"/>
            </a:b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унапређење процеса дигитализације кроз сарадњу са водећим светским институцијама </a:t>
            </a:r>
            <a:br>
              <a:rPr sz="2700"/>
            </a:b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и развој сопствених дигиталних алата</a:t>
            </a:r>
            <a:br>
              <a:rPr sz="2700"/>
            </a:br>
            <a:endParaRPr b="0" lang="en-US" sz="27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0720" y="2971440"/>
            <a:ext cx="6647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200" spc="-1" strike="noStrike">
                <a:solidFill>
                  <a:srgbClr val="000000"/>
                </a:solidFill>
                <a:latin typeface="Calibri"/>
              </a:rPr>
              <a:t>Универзитет у Београду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200" spc="-1" strike="noStrike">
                <a:solidFill>
                  <a:srgbClr val="000000"/>
                </a:solidFill>
                <a:latin typeface="Calibri"/>
              </a:rPr>
              <a:t>Универзитетска библиотек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sr-BA" sz="2200" spc="-1" strike="noStrike">
                <a:solidFill>
                  <a:srgbClr val="000000"/>
                </a:solidFill>
                <a:latin typeface="Calibri"/>
              </a:rPr>
              <a:t>Светозар Марковић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Никола Смоленски, Немања Жикић, Матеа Милошевић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Милена Костић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р 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Василије Милновић,  др Адам Софронијеви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3c26"/>
                </a:solidFill>
                <a:latin typeface="Calibri"/>
              </a:rPr>
              <a:t>Therefore</a:t>
            </a:r>
            <a:r>
              <a:rPr b="0" lang="en-US" sz="4000" spc="-1" strike="noStrike">
                <a:solidFill>
                  <a:srgbClr val="bc3c26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фесионални репозиторијум за дуготрајно чување и приказ дигиталног материјала (Универзитетска библиотека “Светозар Марковић”, Универзитетска библиотека Крагујевац, Градска библиотека Нови Са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ша идеја је мрежа репозиторијума који би омогућили нове могућности у библиотеци: нпр. дигитална међубиблиотечка позајм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000" spc="-1" strike="noStrike">
                <a:solidFill>
                  <a:srgbClr val="bc3c26"/>
                </a:solidFill>
                <a:latin typeface="Calibri"/>
              </a:rPr>
              <a:t>Систем за претраживање и </a:t>
            </a:r>
            <a:br>
              <a:rPr sz="3000"/>
            </a:br>
            <a:r>
              <a:rPr b="1" lang="sr-BA" sz="3000" spc="-1" strike="noStrike">
                <a:solidFill>
                  <a:srgbClr val="bc3c26"/>
                </a:solidFill>
                <a:latin typeface="Calibri"/>
              </a:rPr>
              <a:t>приказ </a:t>
            </a:r>
            <a:r>
              <a:rPr b="1" lang="en-US" sz="3000" spc="-1" strike="noStrike">
                <a:solidFill>
                  <a:srgbClr val="bc3c26"/>
                </a:solidFill>
                <a:latin typeface="Calibri"/>
              </a:rPr>
              <a:t>METS-ALTO</a:t>
            </a:r>
            <a:r>
              <a:rPr b="1" lang="sr-BA" sz="3000" spc="-1" strike="noStrike">
                <a:solidFill>
                  <a:srgbClr val="bc3c26"/>
                </a:solidFill>
                <a:latin typeface="Calibri"/>
              </a:rPr>
              <a:t> фајлова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7720" y="2057400"/>
            <a:ext cx="6172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n house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итава колекција М-А фајлова се може претражити, а приказ је омогућен кроз софтвер у слободном приступ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оз сарадњу са Националном библиотеком Луксембур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bc3c26"/>
                </a:solidFill>
                <a:latin typeface="Calibri"/>
              </a:rPr>
              <a:t>HORIZON 2020 - READ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040" y="1980720"/>
            <a:ext cx="6248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ртнери на пројект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TRANS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RIBUS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вијају се методи и технике за аутоматско препознавање руком писаног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куцавање првих 20 стр. текста, након чега алгоритам сам препознаје остатак руком писаног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bc3c26"/>
                </a:solidFill>
                <a:latin typeface="Calibri"/>
              </a:rPr>
              <a:t>Magic Box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визиција УБСМ – први у источној Европи и трећа библиотека на све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ретраж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вањ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игитал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садржа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 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транспарент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, преко екра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осетљив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г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на додир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ок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 истовремено може посматрати конкретна публикациј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утентичном стању,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из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кр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зивање приказа дигиталних и физичких објеката и искуства корисника у виртуелном и физичком просто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bc3c26"/>
                </a:solidFill>
                <a:latin typeface="Calibri"/>
              </a:rPr>
              <a:t>Универзитетска библиотека </a:t>
            </a:r>
            <a:br>
              <a:rPr sz="3000"/>
            </a:br>
            <a:r>
              <a:rPr b="1" lang="sr-CS" sz="3000" spc="-1" strike="noStrike">
                <a:solidFill>
                  <a:srgbClr val="bc3c26"/>
                </a:solidFill>
                <a:latin typeface="Calibri"/>
              </a:rPr>
              <a:t>“Светозар Марковић”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040" y="2133720"/>
            <a:ext cx="6095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е је прво имплементирано у УБ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ширити на мрежу академских институција и на све остале заинтересоване институције (приватни и јавни сектор, НВ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6840" y="1294920"/>
            <a:ext cx="6705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bc3c26"/>
                </a:solidFill>
                <a:latin typeface="Calibri"/>
              </a:rPr>
              <a:t>ХВАЛА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bc3c26"/>
                </a:solidFill>
                <a:latin typeface="Calibri"/>
              </a:rPr>
              <a:t>НА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bc3c26"/>
                </a:solidFill>
                <a:latin typeface="Calibri"/>
              </a:rPr>
              <a:t>ПАЖЊ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c3c26"/>
                </a:solidFill>
                <a:latin typeface="Calibri"/>
              </a:rPr>
              <a:t>Садржај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120" y="1752480"/>
            <a:ext cx="63248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вод - пројека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ови хоризонт дигитализације у Србији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напређења процеса дигитализац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валитетнија дигитализација за квалитетније библиотечке услу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c3c26"/>
                </a:solidFill>
                <a:latin typeface="Calibri"/>
              </a:rPr>
              <a:t>Пројекат </a:t>
            </a:r>
            <a:br>
              <a:rPr sz="3000"/>
            </a:br>
            <a:r>
              <a:rPr b="1" lang="en-US" sz="3000" spc="-1" strike="noStrike">
                <a:solidFill>
                  <a:srgbClr val="bc3c26"/>
                </a:solidFill>
                <a:latin typeface="Calibri"/>
              </a:rPr>
              <a:t>„Нови хоризонт дигитализације у Србији”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подршка Министарства културе и информисања Владе Р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осам партнерских институција у Срб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(Народна библиотека Србиј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Војни Архи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Универзитетска библиотека Крагујевац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Библијски институт Богословског факултета УБ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Градска библиотека Нови Сад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Библиотека “Милутин Бојић”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Удружење новинара Србије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БИТЕФ)</a:t>
            </a:r>
            <a:r>
              <a:rPr b="0" lang="sr-B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c3c26"/>
                </a:solidFill>
                <a:latin typeface="Calibri"/>
              </a:rPr>
              <a:t>Пројекат „Нови хоризонт дигитализације </a:t>
            </a:r>
            <a:br>
              <a:rPr sz="3000"/>
            </a:br>
            <a:r>
              <a:rPr b="0" lang="en-US" sz="3000" spc="-1" strike="noStrike">
                <a:solidFill>
                  <a:srgbClr val="bc3c26"/>
                </a:solidFill>
                <a:latin typeface="Calibri"/>
              </a:rPr>
              <a:t>у Србији”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Нове методе и приступи дигитализацији примењени у овом пројект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из искустава сарадње Универзитетске библиотеке „Светозар Марковић“ са водећим светским институцијама као што је Британска национална библиотека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itish Library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су плод самосталног развоја нових дигиталних алата потребних да би се у одређеним сегментима процеса дигитализације применила жељена унапређ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арадње са институцијама које су партнери на пројекту и осталим институцијама из Србије и реги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c3c26"/>
                </a:solidFill>
                <a:latin typeface="Calibri"/>
              </a:rPr>
              <a:t>Унапређења процеса дигитализације</a:t>
            </a:r>
            <a:r>
              <a:rPr b="0" lang="en-US" sz="3400" spc="-1" strike="noStrike">
                <a:solidFill>
                  <a:srgbClr val="bc3c26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Унапређују се сви сегменти процеса дигитализације од скенирања до корисничког интерфејса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референца за боје и дименз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корисничка аутентификација дигиталних материј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пуна претраживост дигиталног текс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S-ALTO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 фајл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систем за претраживање и приказ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S-ALTO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 фајл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rizon2020 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gic Bo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Референца за боје и димензије</a:t>
            </a:r>
            <a:r>
              <a:rPr b="1" lang="sr-BA" sz="3600" spc="-1" strike="noStrike">
                <a:solidFill>
                  <a:srgbClr val="bc3c26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0476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израде професионалних мастер фајлова дигиталних копија важних докумената који садрже референцу за боје и дименз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QP card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– до сада у Србији није одомаћена употреба картица са шемом боја за калибрацију (боје и рулер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Корисничка аутентификација </a:t>
            </a:r>
            <a:br>
              <a:rPr sz="2700"/>
            </a:b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дигиталних материјала</a:t>
            </a:r>
            <a:r>
              <a:rPr b="0" lang="sr-BA" sz="3600" spc="-1" strike="noStrike">
                <a:solidFill>
                  <a:srgbClr val="bc3c26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2057040"/>
            <a:ext cx="5943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лгоритми који од дигиталног објекта направе сажетак (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D 5 – British Library; SHA 2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еричке институциј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ш један механизам сигурности за који гарантује институција из иностран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000" spc="-1" strike="noStrike">
                <a:solidFill>
                  <a:srgbClr val="bc3c26"/>
                </a:solidFill>
                <a:latin typeface="Calibri"/>
              </a:rPr>
              <a:t>Пуна претраживост дигиталног текста </a:t>
            </a:r>
            <a:r>
              <a:rPr b="1" lang="en-US" sz="3000" spc="-1" strike="noStrike">
                <a:solidFill>
                  <a:srgbClr val="bc3c26"/>
                </a:solidFill>
                <a:latin typeface="Calibri"/>
              </a:rPr>
              <a:t>METS-ALTO</a:t>
            </a:r>
            <a:r>
              <a:rPr b="1" lang="sr-BA" sz="3000" spc="-1" strike="noStrike">
                <a:solidFill>
                  <a:srgbClr val="bc3c26"/>
                </a:solidFill>
                <a:latin typeface="Calibri"/>
              </a:rPr>
              <a:t> фајлови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205740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ETS-ALTO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ви у Србији (УБСМ и НБ) можемо да правим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ве фајлове смо добили преко прој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uropeana Newspa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ституције своје дигиталне објекте (слике) могу да прилагоде тако да добију претраживе докумен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3c26"/>
                </a:solidFill>
                <a:latin typeface="Calibri"/>
              </a:rPr>
              <a:t>docWorks</a:t>
            </a:r>
            <a:endParaRPr b="0" lang="en-US" sz="4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24379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 нас се то ради преко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docWorks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плик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истарство културе и информисања Владе Р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09:54:11Z</dcterms:created>
  <dc:creator>Milena</dc:creator>
  <dc:description/>
  <dc:language>en-US</dc:language>
  <cp:lastModifiedBy>Tanja</cp:lastModifiedBy>
  <dcterms:modified xsi:type="dcterms:W3CDTF">2016-10-01T10:07:33Z</dcterms:modified>
  <cp:revision>16</cp:revision>
  <dc:subject/>
  <dc:title>Нови хоризонт дигитализације у Србији:  унапређење процеса дигитализације кроз сарадњу са водећим светским институцијама и развој сопствених дигиталних алата</dc:title>
</cp:coreProperties>
</file>