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dt" idx="5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yriad Pro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ftr" idx="6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 type="sldNum" idx="7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3B23B-19C0-42F8-B86E-68F83C23E3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0B013-9E70-485F-B6D3-F60150B385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C3700-248B-4AAD-A713-CA154C8F7F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30D13-D063-42FC-BE80-D1C5CFF8A0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7EA7B-CE07-4829-B1A4-CC2771A107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BE00F-C01C-41CD-9E52-D7A86F163D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10CE5-0C42-48F1-9AD2-C363EDBCCF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74887-1619-4B14-8848-B4BAB8D95B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AF848-9198-45A0-8D5E-8D352D4DC3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BF1D4-BB81-456D-B48F-DE2F60932D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822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667040"/>
            <a:ext cx="822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307188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66704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66704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264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3071880"/>
            <a:ext cx="264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3071880"/>
            <a:ext cx="264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667040"/>
            <a:ext cx="264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667040"/>
            <a:ext cx="264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667040"/>
            <a:ext cx="264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1880"/>
            <a:ext cx="8229600" cy="30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822960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401580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3071880"/>
            <a:ext cx="401580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999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3071880"/>
            <a:ext cx="401580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66704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3071880"/>
            <a:ext cx="8229600" cy="30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401580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307188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466704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307188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667040"/>
            <a:ext cx="822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822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4667040"/>
            <a:ext cx="822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307188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66704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466704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264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3071880"/>
            <a:ext cx="264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3071880"/>
            <a:ext cx="264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4667040"/>
            <a:ext cx="264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4667040"/>
            <a:ext cx="264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4667040"/>
            <a:ext cx="264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3071880"/>
            <a:ext cx="8229600" cy="30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822960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401580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3071880"/>
            <a:ext cx="401580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822960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999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3071880"/>
            <a:ext cx="401580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66704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401580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307188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466704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307188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667040"/>
            <a:ext cx="822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822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4667040"/>
            <a:ext cx="822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307188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66704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466704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264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3071880"/>
            <a:ext cx="264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3071880"/>
            <a:ext cx="264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4667040"/>
            <a:ext cx="264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4667040"/>
            <a:ext cx="264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4667040"/>
            <a:ext cx="264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3071880"/>
            <a:ext cx="8229600" cy="30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822960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401580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3071880"/>
            <a:ext cx="401580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401580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3071880"/>
            <a:ext cx="401580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999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3071880"/>
            <a:ext cx="401580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66704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401580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307188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66704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307188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667040"/>
            <a:ext cx="822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822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667040"/>
            <a:ext cx="822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307188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66704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66704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264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3071880"/>
            <a:ext cx="264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3071880"/>
            <a:ext cx="264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667040"/>
            <a:ext cx="264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667040"/>
            <a:ext cx="264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667040"/>
            <a:ext cx="264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3071880"/>
            <a:ext cx="8229600" cy="30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822960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401580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3071880"/>
            <a:ext cx="401580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999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3071880"/>
            <a:ext cx="401580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66704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401580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307188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466704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307188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4667040"/>
            <a:ext cx="822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822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4667040"/>
            <a:ext cx="822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307188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466704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466704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999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264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3071880"/>
            <a:ext cx="264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3071880"/>
            <a:ext cx="264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4667040"/>
            <a:ext cx="264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4667040"/>
            <a:ext cx="264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4667040"/>
            <a:ext cx="264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3071880"/>
            <a:ext cx="401580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66704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401580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307188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66704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307188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667040"/>
            <a:ext cx="822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yriad Pro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071880"/>
            <a:ext cx="822960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820024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568160" indent="-223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16000" indent="-22392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16000" indent="-22392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16000" indent="-22392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yriad Pro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3071880"/>
            <a:ext cx="822960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820024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568160" indent="-223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16000" indent="-22392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16000" indent="-22392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16000" indent="-22392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ftr" idx="1"/>
          </p:nvPr>
        </p:nvSpPr>
        <p:spPr>
          <a:xfrm>
            <a:off x="3124080" y="6143400"/>
            <a:ext cx="289584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yriad Pro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3071880"/>
            <a:ext cx="822960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820024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568160" indent="-223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16000" indent="-22392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16000" indent="-22392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16000" indent="-22392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ftr" idx="2"/>
          </p:nvPr>
        </p:nvSpPr>
        <p:spPr>
          <a:xfrm>
            <a:off x="3124080" y="6143400"/>
            <a:ext cx="289584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yriad Pro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3071880"/>
            <a:ext cx="822960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820024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568160" indent="-223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16000" indent="-22392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16000" indent="-22392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16000" indent="-22392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ftr" idx="3"/>
          </p:nvPr>
        </p:nvSpPr>
        <p:spPr>
          <a:xfrm>
            <a:off x="3124080" y="6143400"/>
            <a:ext cx="289584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yriad Pro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3071880"/>
            <a:ext cx="822960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820024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568160" indent="-223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16000" indent="-22392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16000" indent="-22392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16000" indent="-22392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ftr" idx="4"/>
          </p:nvPr>
        </p:nvSpPr>
        <p:spPr>
          <a:xfrm>
            <a:off x="3124080" y="6143400"/>
            <a:ext cx="289584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s://www.facebook.com/centralniinstitutzakonzervaciju/?fref=ts" TargetMode="External"/><Relationship Id="rId2" Type="http://schemas.openxmlformats.org/officeDocument/2006/relationships/hyperlink" Target="https://drive.google.com/file/d/0B4I8qSqN5LccVGtycW9nanZTMFU/view" TargetMode="External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mailto:marija.acimovic@cik.org.rs" TargetMode="External"/><Relationship Id="rId3" Type="http://schemas.openxmlformats.org/officeDocument/2006/relationships/hyperlink" Target="mailto:milja.stijovic@cik.org.rs" TargetMode="External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990720" y="914400"/>
            <a:ext cx="716256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варање и управљање дигиталном </a:t>
            </a: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Calibri"/>
                <a:ea typeface="Times New Roman"/>
              </a:rPr>
              <a:t>фото-документацијом у установама заштите културног наслеђа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Марија Аћимовић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Миља Стијови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14680" y="213840"/>
            <a:ext cx="72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ДЕЛАТНОСТ ЗАШТИТЕ К.Н.</a:t>
            </a:r>
            <a:endParaRPr b="1" lang="en-US" sz="2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856800" y="1642680"/>
            <a:ext cx="782964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страживањ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зрада документац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напређење методологије ра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онзервација и рестаура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резента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714680" y="1023480"/>
            <a:ext cx="590040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98989"/>
              </a:solidFill>
              <a:latin typeface="Myriad Pro Cond"/>
            </a:endParaRPr>
          </a:p>
        </p:txBody>
      </p:sp>
      <p:sp>
        <p:nvSpPr>
          <p:cNvPr id="236" name="Footer Placeholder 4"/>
          <p:cNvSpPr/>
          <p:nvPr/>
        </p:nvSpPr>
        <p:spPr>
          <a:xfrm>
            <a:off x="3124080" y="6143760"/>
            <a:ext cx="2895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714320" y="21384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ПРОЦЕС РАДА</a:t>
            </a:r>
            <a:endParaRPr b="1" lang="en-US" sz="2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856800" y="1642680"/>
            <a:ext cx="782964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ипрема предмета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за фотографисањ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рилагођавање терен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дабир и намештање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фото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прем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нимањ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брада докумен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Управљање електронским документ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1714680" y="1023480"/>
            <a:ext cx="590040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98989"/>
              </a:solidFill>
              <a:latin typeface="Myriad Pro Cond"/>
            </a:endParaRPr>
          </a:p>
        </p:txBody>
      </p:sp>
      <p:sp>
        <p:nvSpPr>
          <p:cNvPr id="240" name="Footer Placeholder 4"/>
          <p:cNvSpPr/>
          <p:nvPr/>
        </p:nvSpPr>
        <p:spPr>
          <a:xfrm>
            <a:off x="3124080" y="6143760"/>
            <a:ext cx="2895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714320" y="21384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ОПРЕМА ЗА СНИМАЊЕ</a:t>
            </a:r>
            <a:endParaRPr b="1" lang="en-US" sz="2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1714680" y="1023480"/>
            <a:ext cx="590040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98989"/>
              </a:solidFill>
              <a:latin typeface="Myriad Pro Cond"/>
            </a:endParaRPr>
          </a:p>
        </p:txBody>
      </p:sp>
      <p:sp>
        <p:nvSpPr>
          <p:cNvPr id="243" name="Footer Placeholder 4"/>
          <p:cNvSpPr/>
          <p:nvPr/>
        </p:nvSpPr>
        <p:spPr>
          <a:xfrm>
            <a:off x="3124080" y="6143760"/>
            <a:ext cx="2895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856800" y="1642680"/>
            <a:ext cx="782964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Фото-апарат, објектив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Расветна те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татив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озади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остољ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Тест карт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итна опрема – даљински окидачи, дифузори, ситна помоћна опрема.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152280" y="1599840"/>
            <a:ext cx="4648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Појединачне грађевине или насеља, односно делова насељ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Екстеријер и ентеријер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Археолошко наслеђ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99840" y="68544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СНИМАЊЕ – ФОТОГРАФИСАЊЕ НЕПОКРЕТНОГ КУЛТУРНОГ НАСЛЕЂА</a:t>
            </a:r>
            <a:br>
              <a:rPr sz="2500"/>
            </a:br>
            <a:br>
              <a:rPr sz="2500"/>
            </a:br>
            <a:endParaRPr b="1" lang="en-US" sz="2800" spc="-1" strike="noStrike">
              <a:solidFill>
                <a:srgbClr val="000000"/>
              </a:solidFill>
              <a:latin typeface="Myriad Pro"/>
            </a:endParaRPr>
          </a:p>
        </p:txBody>
      </p:sp>
      <p:pic>
        <p:nvPicPr>
          <p:cNvPr id="247" name="Picture 1" descr=""/>
          <p:cNvPicPr/>
          <p:nvPr/>
        </p:nvPicPr>
        <p:blipFill>
          <a:blip r:embed="rId1"/>
          <a:stretch/>
        </p:blipFill>
        <p:spPr>
          <a:xfrm>
            <a:off x="4648320" y="2058840"/>
            <a:ext cx="4354560" cy="304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240" y="1599840"/>
            <a:ext cx="4419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рипрема атеље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рва група предмета – слике, рамови, равни текстилни предмети, предмета испод стакла, предмети са израженим одсјаје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Друга група предмета – избор позадине, осветљавање, специфичности археолошког, историјског, уметничког, етнолошког предмета, (одевни предмети, скулптуре, макро-фотографиј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99840" y="990720"/>
            <a:ext cx="64292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СНИМАЊЕ – ФОТОГРАФИСАЊЕ ПОКРЕТНОГ КУЛТУРНОГ НАСЛЕЂА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Myriad Pro"/>
            </a:endParaRPr>
          </a:p>
        </p:txBody>
      </p:sp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5257800" y="1600200"/>
            <a:ext cx="3772080" cy="25146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4" descr=""/>
          <p:cNvPicPr/>
          <p:nvPr/>
        </p:nvPicPr>
        <p:blipFill>
          <a:blip r:embed="rId2"/>
          <a:stretch/>
        </p:blipFill>
        <p:spPr>
          <a:xfrm>
            <a:off x="4952880" y="4343400"/>
            <a:ext cx="420552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itle 5"/>
          <p:cNvSpPr/>
          <p:nvPr/>
        </p:nvSpPr>
        <p:spPr>
          <a:xfrm>
            <a:off x="1751040" y="990720"/>
            <a:ext cx="6429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100" spc="-1" strike="noStrike">
                <a:solidFill>
                  <a:srgbClr val="000000"/>
                </a:solidFill>
                <a:latin typeface="Calibri"/>
              </a:rPr>
              <a:t>СНИМАЊЕ – ФОТОГРАФИСАЊЕ ПОКРЕТНОГ КУЛТУРНОГ НАСЛЕЂА</a:t>
            </a:r>
            <a:br>
              <a:rPr sz="2800"/>
            </a:br>
            <a:br>
              <a:rPr sz="2800"/>
            </a:b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51920" y="160020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пецијалне технике снимања –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aking light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фотографисање, поларизујући филтери;  HDRI (High Dynamic Range Imaging), дубинска оштрина, високе резолуц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нимање у ултраљубичастом и инфрацрвеном спектр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Фотограметријско снимањe музејских предме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Picture 4" descr=""/>
          <p:cNvPicPr/>
          <p:nvPr/>
        </p:nvPicPr>
        <p:blipFill>
          <a:blip r:embed="rId1"/>
          <a:stretch/>
        </p:blipFill>
        <p:spPr>
          <a:xfrm>
            <a:off x="5486400" y="1447920"/>
            <a:ext cx="3371760" cy="25286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8" descr=""/>
          <p:cNvPicPr/>
          <p:nvPr/>
        </p:nvPicPr>
        <p:blipFill>
          <a:blip r:embed="rId2"/>
          <a:stretch/>
        </p:blipFill>
        <p:spPr>
          <a:xfrm>
            <a:off x="5381640" y="4343400"/>
            <a:ext cx="3581280" cy="214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533520" y="2057040"/>
            <a:ext cx="3962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Форма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прављање боја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ColorCheck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меновање докумена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Рачунарска опре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599840" y="68544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ОБРАДА ДИГИТАЛНИХ ФОТОГРАФИЈА</a:t>
            </a:r>
            <a:br>
              <a:rPr sz="2500"/>
            </a:br>
            <a:br>
              <a:rPr sz="2500"/>
            </a:br>
            <a:endParaRPr b="1" lang="en-US" sz="2800" spc="-1" strike="noStrike">
              <a:solidFill>
                <a:srgbClr val="000000"/>
              </a:solidFill>
              <a:latin typeface="Myriad Pro"/>
            </a:endParaRPr>
          </a:p>
        </p:txBody>
      </p:sp>
      <p:pic>
        <p:nvPicPr>
          <p:cNvPr id="258" name="Picture 1" descr=""/>
          <p:cNvPicPr/>
          <p:nvPr/>
        </p:nvPicPr>
        <p:blipFill>
          <a:blip r:embed="rId1"/>
          <a:stretch/>
        </p:blipFill>
        <p:spPr>
          <a:xfrm>
            <a:off x="4724280" y="2058840"/>
            <a:ext cx="4235400" cy="31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0880" y="1599840"/>
            <a:ext cx="4191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Метаподац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Очување документац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истеми за управљањ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Доступно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равна регулатива из области заштите културног наслеђа и ауторских пра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99840" y="45684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УПРАВЉАЊЕ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Myriad Pro"/>
            </a:endParaRPr>
          </a:p>
        </p:txBody>
      </p:sp>
      <p:pic>
        <p:nvPicPr>
          <p:cNvPr id="261" name="Picture 3" descr=""/>
          <p:cNvPicPr/>
          <p:nvPr/>
        </p:nvPicPr>
        <p:blipFill>
          <a:blip r:embed="rId1"/>
          <a:stretch/>
        </p:blipFill>
        <p:spPr>
          <a:xfrm>
            <a:off x="4648320" y="1676520"/>
            <a:ext cx="427644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Препоруке за стварање и управљање дигиталном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фото-документацијом у институцијама заштите културног наслеђа Србије</a:t>
            </a:r>
            <a:endParaRPr b="1" lang="en-US" sz="2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1219320" y="2285640"/>
            <a:ext cx="640080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264" name="Picture 2" descr=""/>
          <p:cNvPicPr/>
          <p:nvPr/>
        </p:nvPicPr>
        <p:blipFill>
          <a:blip r:embed="rId1"/>
          <a:stretch/>
        </p:blipFill>
        <p:spPr>
          <a:xfrm>
            <a:off x="2060640" y="2286000"/>
            <a:ext cx="5025960" cy="3354480"/>
          </a:xfrm>
          <a:prstGeom prst="rect">
            <a:avLst/>
          </a:prstGeom>
          <a:ln w="0">
            <a:noFill/>
          </a:ln>
        </p:spPr>
      </p:pic>
      <p:sp>
        <p:nvSpPr>
          <p:cNvPr id="265" name="TextBox 4"/>
          <p:cNvSpPr/>
          <p:nvPr/>
        </p:nvSpPr>
        <p:spPr>
          <a:xfrm>
            <a:off x="7716960" y="5473800"/>
            <a:ext cx="14475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љеф на прочељу фотографског атељеа Милана Јовановића, Београд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тограф Предраг Михајлови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914400" y="1599840"/>
            <a:ext cx="7315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Током јесени 2014. године на електронске адресе 115 музеја и 13 завода за заштиту споменика културе прослеђена је Анкета чији је циљ био утврђивање реалног стања о стварању, коришћењу и управљању фотографском документацијом у институцијама заштите културног наслеђа у Србиј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Аутори Препорука су желели да текстове прилагоде стању и потребама фотографа, документариста, кустоса, конзерватора и других професионалaца из институција заштите покретног и непокретног културног наслеђ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Питања су била подељена у четири групе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особе укључене у стварање и управљање фото-документациј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опрема за фотографисање и обраду фотографија коју корист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намена фото-документације у институцији у којој рад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коришћење и управљање фото-документациј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612800" y="609120"/>
            <a:ext cx="64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Развојни пут Пере фотографа </a:t>
            </a:r>
            <a:br>
              <a:rPr sz="2800"/>
            </a:br>
            <a:br>
              <a:rPr sz="2500"/>
            </a:br>
            <a:endParaRPr b="1" lang="en-US" sz="2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1714680" y="1023480"/>
            <a:ext cx="590040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98989"/>
              </a:solidFill>
              <a:latin typeface="Myriad Pro Cond"/>
            </a:endParaRPr>
          </a:p>
        </p:txBody>
      </p:sp>
      <p:pic>
        <p:nvPicPr>
          <p:cNvPr id="269" name="Picture 1" descr=""/>
          <p:cNvPicPr/>
          <p:nvPr/>
        </p:nvPicPr>
        <p:blipFill>
          <a:blip r:embed="rId1"/>
          <a:stretch/>
        </p:blipFill>
        <p:spPr>
          <a:xfrm>
            <a:off x="7010280" y="228600"/>
            <a:ext cx="2068560" cy="138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14320" y="21384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yriad Pro"/>
              </a:rPr>
              <a:t>О документацији...</a:t>
            </a:r>
            <a:endParaRPr b="1" lang="en-US" sz="2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856800" y="1642680"/>
            <a:ext cx="782964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Документација културног наслеђа обједињује две главне активност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бележење информација које се односе на споменике, зграде или локалитете, укључујући њихове физичке карактеристике, историју и проблем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оцес организовања, интерпретације и управљања информацијам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714680" y="1023480"/>
            <a:ext cx="590040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98989"/>
              </a:solidFill>
              <a:latin typeface="Myriad Pro Cond"/>
            </a:endParaRPr>
          </a:p>
        </p:txBody>
      </p:sp>
      <p:sp>
        <p:nvSpPr>
          <p:cNvPr id="205" name="Footer Placeholder 4"/>
          <p:cNvSpPr/>
          <p:nvPr/>
        </p:nvSpPr>
        <p:spPr>
          <a:xfrm>
            <a:off x="3124080" y="6143760"/>
            <a:ext cx="2895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456840" y="1447560"/>
            <a:ext cx="845820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Сарадња професионалаца из неколико установа заштите: сарадници ЦИК-а, чланови Секције фотографа ДКС-а и професионалци из установа заштите наслеђ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Марија Аћимовић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МА, конзерватор, документариста ЦИК-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Снежана Неговановић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дипл.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ниматељ слике, председник Секције фотографа ДКС и сниматељ Завода за заштиту споменика културе Београ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Предраг  Михајловић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фотограф, Народни музеј Крагујева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Вељко Џикић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МА, конзерватор, ЦИ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Недељко Марковић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фотограф, Покрајински завод за заштиту споменика култур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Марко Алексић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дипл. инж. архитектуре, сарадник ЦИК-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Југослав Пендић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апсолвент археологије, сарадник ЦИК-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д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Миља Стијовић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кустос, сарадник ЦИК-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Ана Живковић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МА, конзерватор, сарадник ЦИК-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714320" y="21384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yriad Pro"/>
              </a:rPr>
              <a:t>Аутори</a:t>
            </a:r>
            <a:endParaRPr b="1" lang="en-US" sz="2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1714680" y="1023480"/>
            <a:ext cx="590040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98989"/>
              </a:solidFill>
              <a:latin typeface="Myriad Pro Cond"/>
            </a:endParaRPr>
          </a:p>
        </p:txBody>
      </p:sp>
      <p:sp>
        <p:nvSpPr>
          <p:cNvPr id="273" name="Footer Placeholder 7"/>
          <p:cNvSpPr/>
          <p:nvPr/>
        </p:nvSpPr>
        <p:spPr>
          <a:xfrm>
            <a:off x="3124080" y="6143760"/>
            <a:ext cx="2895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676520" y="533160"/>
            <a:ext cx="7277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500" spc="-1" strike="noStrike">
                <a:solidFill>
                  <a:srgbClr val="000000"/>
                </a:solidFill>
                <a:latin typeface="Myriad Pro"/>
              </a:rPr>
              <a:t>Коришћена је фото-документација </a:t>
            </a:r>
            <a:r>
              <a:rPr b="1" lang="sr-RS" sz="2500" spc="-1" strike="noStrike" u="sng">
                <a:solidFill>
                  <a:srgbClr val="000000"/>
                </a:solidFill>
                <a:uFillTx/>
                <a:latin typeface="Myriad Pro"/>
              </a:rPr>
              <a:t>17 установа заштите</a:t>
            </a:r>
            <a:r>
              <a:rPr b="1" lang="sr-RS" sz="2500" spc="-1" strike="noStrike">
                <a:solidFill>
                  <a:srgbClr val="000000"/>
                </a:solidFill>
                <a:latin typeface="Myriad Pro"/>
              </a:rPr>
              <a:t> културног наслеђа:</a:t>
            </a:r>
            <a:br>
              <a:rPr sz="2500"/>
            </a:br>
            <a:endParaRPr b="1" lang="en-US" sz="25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75" name="Footer Placeholder 7"/>
          <p:cNvSpPr/>
          <p:nvPr/>
        </p:nvSpPr>
        <p:spPr>
          <a:xfrm>
            <a:off x="3124080" y="6143760"/>
            <a:ext cx="2895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2436840" y="1523520"/>
            <a:ext cx="4270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. Народни музеј Крагујевац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2. Завод за заштиту споменика културе Крагујевац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3. Музеј афричке уметно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4. Завичајни музеј Јагодин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5. Народни музеј Ваљево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6. Градски музеј Вршац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7. Народни музеј Шабац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8. Храм Светог Оца Николаја у Самош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9. Галерија „Лазар Возаревић“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0. Кућа лега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1. Галерија Матице српск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2. Завод за заштиту споменика културе Краљев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3. Завод за заштиту споменика културе Ваљево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4. Завод за заштиту споменика културе Ниш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5. Завод за заштиту споменика културе Града Новог Сад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6. Међуопштински завод за заштиту споменика културе Суботица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7. Покрајински завод за заштиту споменика култур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457200" y="1600200"/>
            <a:ext cx="8153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епоруке немају комерцијалан карактер и могу да се преузму на Facebook страници ЦИК-а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www.facebook.com/centralniinstitutzakonzervaciju/?fref=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дносно на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s://drive.google.com/file/d/0B4I8qSqN5LccVGtycW9nanZTMFU/vie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..или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реузимање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штампан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ог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примерк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у просторијама Центра за документацију ЦИК-а (Теразије 26, Београд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..или ћемо вам послати поштом ако нисте у могућности да нас посетит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714320" y="21384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yriad Pro"/>
              </a:rPr>
              <a:t>За заинтересоване</a:t>
            </a:r>
            <a:endParaRPr b="1" lang="en-US" sz="2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79" name="Footer Placeholder 7"/>
          <p:cNvSpPr/>
          <p:nvPr/>
        </p:nvSpPr>
        <p:spPr>
          <a:xfrm>
            <a:off x="3124080" y="6143760"/>
            <a:ext cx="2895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380520" y="1447560"/>
            <a:ext cx="845820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Део вишегодишњег пројекта „Дигитализација документације културног наслеђа“ који се односи на истраживања актуелног стања у установама за заштиту културног наслеђа Р.С. ради објављивања стручних студија које се односе на одређене аспекте документације о културном наслеђ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Активност у 2016. години – припрема публикације „Дигитална доступност музејске документације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тудија Кристин Кели (Кristin Kelly) о отвореном приступу фотографијама из 2013. годи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714320" y="21384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yriad Pro"/>
              </a:rPr>
              <a:t>This time next year…</a:t>
            </a:r>
            <a:endParaRPr b="1" lang="en-US" sz="2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82" name="Footer Placeholder 7"/>
          <p:cNvSpPr/>
          <p:nvPr/>
        </p:nvSpPr>
        <p:spPr>
          <a:xfrm>
            <a:off x="3124080" y="6143760"/>
            <a:ext cx="2895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Content Placeholder 2" descr=""/>
          <p:cNvPicPr/>
          <p:nvPr/>
        </p:nvPicPr>
        <p:blipFill>
          <a:blip r:embed="rId1"/>
          <a:stretch/>
        </p:blipFill>
        <p:spPr>
          <a:xfrm>
            <a:off x="1676520" y="1450800"/>
            <a:ext cx="5940360" cy="395928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99840" y="45684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ХВАЛА НА ПАЖЊИ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 - ПИТАЊА?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Марија Аћимовић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marija.acimovic@cik.org.rs</a:t>
            </a: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Миља Стијовић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milja.stijovic@cik.org.rs</a:t>
            </a: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714680" y="213840"/>
            <a:ext cx="7124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ВАЖНОСТ ФОТОГРАФИЈЕ У ДОКУМЕНТАЦИЈИ</a:t>
            </a:r>
            <a:endParaRPr b="1" lang="en-US" sz="2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856800" y="1642680"/>
            <a:ext cx="782964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епоруке CIDOC-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евентивна конзервација  - ICOM CC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есет фактора пропадања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Фотографија у служби заштит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Footer Placeholder 4"/>
          <p:cNvSpPr/>
          <p:nvPr/>
        </p:nvSpPr>
        <p:spPr>
          <a:xfrm>
            <a:off x="3124080" y="6143760"/>
            <a:ext cx="2895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714320" y="21384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IDOC - 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ПРЕПОРУКЕ</a:t>
            </a:r>
            <a:endParaRPr b="1" lang="en-US" sz="2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856800" y="1642680"/>
            <a:ext cx="782964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IDOC-oве препоруке покривају следеће главне циљеве музејске документациј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сигуравање одговорности за предмет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Допринос сигурности предме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Креирање историјског архива о предмети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могућавање физичког и интелектуалног приступа предметим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714680" y="1023480"/>
            <a:ext cx="590040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98989"/>
              </a:solidFill>
              <a:latin typeface="Myriad Pro Cond"/>
            </a:endParaRPr>
          </a:p>
        </p:txBody>
      </p:sp>
      <p:sp>
        <p:nvSpPr>
          <p:cNvPr id="212" name="Footer Placeholder 4"/>
          <p:cNvSpPr/>
          <p:nvPr/>
        </p:nvSpPr>
        <p:spPr>
          <a:xfrm>
            <a:off x="3124080" y="6143760"/>
            <a:ext cx="2895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14680" y="213840"/>
            <a:ext cx="7124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COM CC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 – ПРЕВЕНТИВНА КОНЗЕРВАЦИЈА</a:t>
            </a:r>
            <a:endParaRPr b="1" lang="en-US" sz="2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856800" y="1642680"/>
            <a:ext cx="782964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000000"/>
                </a:solidFill>
                <a:latin typeface="Calibri"/>
              </a:rPr>
              <a:t>Превентивна конзервација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обухвата све мере и активности које имају за циљ избегавање и умањење будућег пропадања или губитка предме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римери п.к. су адекватне мере и активности за вођење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документације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одлагање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руковање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аковање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транспорт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безбедност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услови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у окружењу (светло, влажност, загађивачи, штеточине),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ланирање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ризика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едуковање особља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одизање јавне свести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равна усклађено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714680" y="1023480"/>
            <a:ext cx="590040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98989"/>
              </a:solidFill>
              <a:latin typeface="Myriad Pro Cond"/>
            </a:endParaRPr>
          </a:p>
        </p:txBody>
      </p:sp>
      <p:sp>
        <p:nvSpPr>
          <p:cNvPr id="216" name="Footer Placeholder 4"/>
          <p:cNvSpPr/>
          <p:nvPr/>
        </p:nvSpPr>
        <p:spPr>
          <a:xfrm>
            <a:off x="3124080" y="6143760"/>
            <a:ext cx="2895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714320" y="21384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ДЕСЕТ ФАКТОРА ПРОПАДАЊА -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CI</a:t>
            </a:r>
            <a:endParaRPr b="1" lang="en-US" sz="2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856800" y="1642680"/>
            <a:ext cx="782964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Десет фактора пропадања (предмета) представљају оквир за неопходне мере превентивне конзервације које свака установа може да уведе (интерним прописом) и спроведе (практичном применом), ради сузбијања већих штета у музеји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Десет фактора су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Физичке силе                        Биолошки агенс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рађа и вандализам           Загађивач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Ватра                                       Светл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Вода                                         Температура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Дисоцијација                         Релативна влажно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714680" y="1023480"/>
            <a:ext cx="590040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98989"/>
              </a:solidFill>
              <a:latin typeface="Myriad Pro Cond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3124080" y="6143760"/>
            <a:ext cx="2895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714320" y="21384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ДИСОЦИЈАЦИЈА</a:t>
            </a:r>
            <a:endParaRPr b="1" lang="en-US" sz="2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856800" y="1642680"/>
            <a:ext cx="782964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Дисоцијација је специфичан облик фактора пропадања, где нема видљивих, односно физичких оштећења на материјалима (изузетак су деловања других фактора, на пример штеточина – инсеката који су уништили текстилни предмет), већ је пос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едица губитка или се предмет не може лоцирати у депоу услед лошег или никаквог обе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ле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жавања предмета, губитка инвентарног броја, када се н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 прати кретање или локација предмета, губитак информација о предмету због губитка инвентарних листића који се налазе на самом предмету, те неадекватног повезивања истих са предметом, или нечитљиве документације и грешака у преписивању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714680" y="1023480"/>
            <a:ext cx="590040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98989"/>
              </a:solidFill>
              <a:latin typeface="Myriad Pro Cond"/>
            </a:endParaRPr>
          </a:p>
        </p:txBody>
      </p:sp>
      <p:sp>
        <p:nvSpPr>
          <p:cNvPr id="224" name="Footer Placeholder 4"/>
          <p:cNvSpPr/>
          <p:nvPr/>
        </p:nvSpPr>
        <p:spPr>
          <a:xfrm>
            <a:off x="3124080" y="6143760"/>
            <a:ext cx="2895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714320" y="21384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ДИСОЦИЈАЦИЈА</a:t>
            </a:r>
            <a:endParaRPr b="1" lang="en-US" sz="2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856800" y="1642680"/>
            <a:ext cx="782964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Овим фактором пропадања су обухваћени сви предмети, нарочито у ванредним приликама, када се изгуби пратећа документација, посебно мањи предмети на којима није означен инвентарни број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714680" y="1023480"/>
            <a:ext cx="590040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98989"/>
              </a:solidFill>
              <a:latin typeface="Myriad Pro Cond"/>
            </a:endParaRPr>
          </a:p>
        </p:txBody>
      </p:sp>
      <p:sp>
        <p:nvSpPr>
          <p:cNvPr id="228" name="Footer Placeholder 4"/>
          <p:cNvSpPr/>
          <p:nvPr/>
        </p:nvSpPr>
        <p:spPr>
          <a:xfrm>
            <a:off x="3124080" y="6143760"/>
            <a:ext cx="2895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714320" y="21384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КРАЂА И ВАНДАЛИЗАМ</a:t>
            </a:r>
            <a:endParaRPr b="1" lang="en-US" sz="2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856800" y="1642680"/>
            <a:ext cx="782964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ада се деси случај крађе или вандализма, списак украдених предмета се хитно доставља полициј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Доставља се детаљан опис предмета са пропратном фотографијом, као и извештајем стања (ако постоји), а одељење за документацију обезбеђује смернице у овим случајеви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1714680" y="1023480"/>
            <a:ext cx="590040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98989"/>
              </a:solidFill>
              <a:latin typeface="Myriad Pro Cond"/>
            </a:endParaRPr>
          </a:p>
        </p:txBody>
      </p:sp>
      <p:sp>
        <p:nvSpPr>
          <p:cNvPr id="232" name="Footer Placeholder 4"/>
          <p:cNvSpPr/>
          <p:nvPr/>
        </p:nvSpPr>
        <p:spPr>
          <a:xfrm>
            <a:off x="3124080" y="6143760"/>
            <a:ext cx="2895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2T10:23:56Z</dcterms:created>
  <dc:creator>cik1</dc:creator>
  <dc:description/>
  <dc:language>en-US</dc:language>
  <cp:lastModifiedBy>Mali Đura</cp:lastModifiedBy>
  <dcterms:modified xsi:type="dcterms:W3CDTF">2016-09-29T06:15:15Z</dcterms:modified>
  <cp:revision>578</cp:revision>
  <dc:subject/>
  <dc:title>PowerPoint Presentation</dc:title>
</cp:coreProperties>
</file>